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wmf" ContentType="image/x-wmf"/>
  <Override PartName="/ppt/media/image18.png" ContentType="image/png"/>
  <Override PartName="/ppt/media/image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31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35.wmf" ContentType="image/x-wmf"/>
  <Override PartName="/ppt/media/image16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F91-6541-4C3A-86E6-1052B27C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5DB-C764-44F0-A977-52FC9183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DA3-E37E-48E4-95E3-548F339D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75A-BEBB-44B0-9D54-8FA145D7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57A-D8FB-4F28-B3CF-565D2D9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96C-A52C-44C0-9517-2388D309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ABC-6A19-490A-A8A5-DDDD8E3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4F2-D754-4384-989C-EC1F2AC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14A-386F-4233-AD6D-FF649A4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677-A6A4-42C2-BDD6-8579438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BC9-67ED-42C3-8095-9B2C2AF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560-FE48-4A63-A856-5D6358E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277-1AE3-405D-BD37-439657191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rai.net.ru/nano/" TargetMode="External"/><Relationship Id="rId3" Type="http://schemas.openxmlformats.org/officeDocument/2006/relationships/hyperlink" Target="http://urai.net.ru/crystal/p2aa1.html" TargetMode="External"/><Relationship Id="rId4" Type="http://schemas.openxmlformats.org/officeDocument/2006/relationships/hyperlink" Target="http://images.yandex.ru/yandsearch?rpt=simage&amp;ed=1&amp;text=&#1088;&#1072;&#1089;&#1090;&#1074;&#1086;&#1088;%20&#1084;&#1077;&#1076;&#1085;&#1086;&#1075;&#1086;%20&#1082;&#1091;&#1087;&#1086;&#1088;&#1086;&#1089;&#1072;&amp;p=6&amp;img_url=akak.ru%2Fsteps%2Fpictures%2F000%2F017%2F616_large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opper-sulfate"/>
          <p:cNvPicPr/>
          <p:nvPr/>
        </p:nvPicPr>
        <p:blipFill>
          <a:blip r:embed="rId2"/>
          <a:stretch/>
        </p:blipFill>
        <p:spPr>
          <a:xfrm>
            <a:off x="5424480" y="3571920"/>
            <a:ext cx="3384720" cy="2908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67658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ащивание кристаллов медного купороса                                  в домашн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у выполнил                                                        ученик  2 класса «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ибаев Асыл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                                                        Кокашвили  Е.С.                                                учитель начальных классов ОСШ № 11 г. Караг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593720" y="333360"/>
            <a:ext cx="7442280" cy="6524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8_b"/>
          <p:cNvPicPr/>
          <p:nvPr/>
        </p:nvPicPr>
        <p:blipFill>
          <a:blip r:embed="rId2"/>
          <a:stretch/>
        </p:blipFill>
        <p:spPr>
          <a:xfrm>
            <a:off x="6300720" y="4959360"/>
            <a:ext cx="2519280" cy="189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5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71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1547640" y="404640"/>
            <a:ext cx="7272360" cy="518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25236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67435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42680" y="5357880"/>
            <a:ext cx="7286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F:\Асылжан\P70407-083848.jpg"/>
          <p:cNvPicPr/>
          <p:nvPr/>
        </p:nvPicPr>
        <p:blipFill>
          <a:blip r:embed="rId2"/>
          <a:srcRect l="0" t="0" r="0" b="23796"/>
          <a:stretch/>
        </p:blipFill>
        <p:spPr>
          <a:xfrm>
            <a:off x="3924360" y="1671480"/>
            <a:ext cx="2249280" cy="249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:\Асылжан\P70407-084153.jpg"/>
          <p:cNvPicPr/>
          <p:nvPr/>
        </p:nvPicPr>
        <p:blipFill>
          <a:blip r:embed="rId3"/>
          <a:srcRect l="0" t="0" r="0" b="27939"/>
          <a:stretch/>
        </p:blipFill>
        <p:spPr>
          <a:xfrm>
            <a:off x="6588000" y="1639800"/>
            <a:ext cx="1957680" cy="250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1593720" y="4148280"/>
            <a:ext cx="6507360" cy="28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rcRect l="24212" t="0" r="10230" b="21585"/>
          <a:stretch/>
        </p:blipFill>
        <p:spPr>
          <a:xfrm>
            <a:off x="1760400" y="1671480"/>
            <a:ext cx="1746360" cy="2476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1764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5293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593720" y="4005360"/>
            <a:ext cx="69390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Асылжан\P70407-084207.jpg"/>
          <p:cNvPicPr/>
          <p:nvPr/>
        </p:nvPicPr>
        <p:blipFill>
          <a:blip r:embed="rId3"/>
          <a:srcRect l="0" t="0" r="0" b="25862"/>
          <a:stretch/>
        </p:blipFill>
        <p:spPr>
          <a:xfrm>
            <a:off x="2484360" y="1844640"/>
            <a:ext cx="2210040" cy="216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4920" y="35892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                медного купо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43040" y="4714560"/>
            <a:ext cx="71438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655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:\Асылжан\P70407-084334.jpg"/>
          <p:cNvPicPr/>
          <p:nvPr/>
        </p:nvPicPr>
        <p:blipFill>
          <a:blip r:embed="rId3"/>
          <a:srcRect l="0" t="0" r="0" b="18159"/>
          <a:stretch/>
        </p:blipFill>
        <p:spPr>
          <a:xfrm>
            <a:off x="4140360" y="1523880"/>
            <a:ext cx="2303280" cy="253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593720" y="1233360"/>
            <a:ext cx="5954760" cy="439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14320" y="99972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се о минералах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rai.net.ru/nano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ращивание минерал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rai.net.ru/crystal/p2aa1.html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еенсон И.А Занимательная химия для детей и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Твой первый АТЛАС определитель    МИНЕР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Энциклопедия драгоценных камней и кристалл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http://www.kristallikov.net/page6.html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rpt=simage&amp;ed=1&amp;text=%D1%80%D0%B0%D1%81%D1%82%D0%B2%D0%BE%D1%80%20%D0%BC%D0%B5%D0%B4%D0%BD%D0%BE%D0%B3%D0%BE%20%D0%BA%D1%83%D0%BF%D0%BE%D1%80%D0%BE%D1%81%D0%B0&amp;p=6&amp;img_url=akak.ru%2Fsteps%2Fpictures%2F000%2F017%2F616_large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file://localhost/E:/Data/Information/Kristalls/01.ht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file://localhost/E:/Data/Information/Kristalls/05.htm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Алексинский В.Н. Занимательные опыты по химии: Книга для учителя. - М.: Просвещение,1995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14400" y="5929200"/>
            <a:ext cx="50576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0" y="765000"/>
            <a:ext cx="6321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342900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инерал, самородный элемент, встречается в виде восьми- и двенадцатигранных кристаллов и и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:\Users\User\Pictures\Загрузи\x_6e01ae78.jpg"/>
          <p:cNvPicPr/>
          <p:nvPr/>
        </p:nvPicPr>
        <p:blipFill>
          <a:blip r:embed="rId2"/>
          <a:stretch/>
        </p:blipFill>
        <p:spPr>
          <a:xfrm>
            <a:off x="320364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5572080" y="1785960"/>
            <a:ext cx="2720880" cy="2036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tretch/>
        </p:blipFill>
        <p:spPr>
          <a:xfrm>
            <a:off x="5500800" y="4286160"/>
            <a:ext cx="2928960" cy="175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3080" y="499680"/>
            <a:ext cx="64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2680" y="1857240"/>
            <a:ext cx="3143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озрачный, ярко-красного, темно-красного или фиолетово-красного цвета. Окраска создается примесью хр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Users\User\Pictures\Загрузи\1266227834_glamour.tomsk.ru34.jpg"/>
          <p:cNvPicPr/>
          <p:nvPr/>
        </p:nvPicPr>
        <p:blipFill>
          <a:blip r:embed="rId2"/>
          <a:stretch/>
        </p:blipFill>
        <p:spPr>
          <a:xfrm>
            <a:off x="2484360" y="5429160"/>
            <a:ext cx="1871640" cy="1214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"/>
          <p:cNvPicPr/>
          <p:nvPr/>
        </p:nvPicPr>
        <p:blipFill>
          <a:blip r:embed="rId3"/>
          <a:stretch/>
        </p:blipFill>
        <p:spPr>
          <a:xfrm>
            <a:off x="5214960" y="1928880"/>
            <a:ext cx="2786040" cy="178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"/>
          <p:cNvPicPr/>
          <p:nvPr/>
        </p:nvPicPr>
        <p:blipFill>
          <a:blip r:embed="rId4"/>
          <a:stretch/>
        </p:blipFill>
        <p:spPr>
          <a:xfrm>
            <a:off x="5214960" y="4071960"/>
            <a:ext cx="2863800" cy="177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44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643040"/>
            <a:ext cx="350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ным материалом дл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ПФ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корунд - бесцветный оксид алюминия. При добавления 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итана и железа в период его формирования образуются кристаллы сапфира прекрасного сине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User\Pictures\Загрузи\i.jpeg"/>
          <p:cNvPicPr/>
          <p:nvPr/>
        </p:nvPicPr>
        <p:blipFill>
          <a:blip r:embed="rId2"/>
          <a:stretch/>
        </p:blipFill>
        <p:spPr>
          <a:xfrm>
            <a:off x="2700360" y="5445000"/>
            <a:ext cx="1727280" cy="1376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"/>
          <p:cNvPicPr/>
          <p:nvPr/>
        </p:nvPicPr>
        <p:blipFill>
          <a:blip r:embed="rId3"/>
          <a:stretch/>
        </p:blipFill>
        <p:spPr>
          <a:xfrm>
            <a:off x="5643720" y="1714680"/>
            <a:ext cx="2571480" cy="2049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2" descr=""/>
          <p:cNvPicPr/>
          <p:nvPr/>
        </p:nvPicPr>
        <p:blipFill>
          <a:blip r:embed="rId4"/>
          <a:stretch/>
        </p:blipFill>
        <p:spPr>
          <a:xfrm>
            <a:off x="5643720" y="4071960"/>
            <a:ext cx="2714400" cy="18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4320" y="571320"/>
            <a:ext cx="6529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14320" y="1785600"/>
            <a:ext cx="3500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твердый и самый редкий из природных минералов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егодня алмаз в первую очередь камень-работник, а не камень-украшение. Алмазными пилами распиливают ка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User\Pictures\Загрузи\Makita_4101RH_1_1.jpg.1000x1000_q85.jpg"/>
          <p:cNvPicPr/>
          <p:nvPr/>
        </p:nvPicPr>
        <p:blipFill>
          <a:blip r:embed="rId2"/>
          <a:stretch/>
        </p:blipFill>
        <p:spPr>
          <a:xfrm>
            <a:off x="4929120" y="1714680"/>
            <a:ext cx="3738600" cy="3738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2680" y="57168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3571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б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тся к самым красивым и самым дорогим из драгоценных камней. У   него есть и другие качества, более скромные, но полезные. Новая жизнь рубина - это лаз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User\Pictures\Загрузи\tattoo905.jpg"/>
          <p:cNvPicPr/>
          <p:nvPr/>
        </p:nvPicPr>
        <p:blipFill>
          <a:blip r:embed="rId2"/>
          <a:stretch/>
        </p:blipFill>
        <p:spPr>
          <a:xfrm>
            <a:off x="5072040" y="1857240"/>
            <a:ext cx="3643200" cy="3643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960" y="571680"/>
            <a:ext cx="6672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14320" y="2142720"/>
            <a:ext cx="2857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пф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зрачен, поэтому из него делают пластины для оптических приб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User\Pictures\Загрузи\sturman_F30070.jpg"/>
          <p:cNvPicPr/>
          <p:nvPr/>
        </p:nvPicPr>
        <p:blipFill>
          <a:blip r:embed="rId2"/>
          <a:stretch/>
        </p:blipFill>
        <p:spPr>
          <a:xfrm>
            <a:off x="6429240" y="2786040"/>
            <a:ext cx="20433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Pictures\Загрузи\thumbnail.jpeg"/>
          <p:cNvPicPr/>
          <p:nvPr/>
        </p:nvPicPr>
        <p:blipFill>
          <a:blip r:embed="rId3"/>
          <a:stretch/>
        </p:blipFill>
        <p:spPr>
          <a:xfrm>
            <a:off x="4643280" y="1785960"/>
            <a:ext cx="1872000" cy="13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Pictures\Загрузи\1004650031.jpg"/>
          <p:cNvPicPr/>
          <p:nvPr/>
        </p:nvPicPr>
        <p:blipFill>
          <a:blip r:embed="rId4"/>
          <a:stretch/>
        </p:blipFill>
        <p:spPr>
          <a:xfrm>
            <a:off x="4143240" y="40719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714680" y="857160"/>
            <a:ext cx="692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42680" y="500040"/>
            <a:ext cx="6815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ГОВОРЯТ ЛЕГЕ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71760" y="1785960"/>
            <a:ext cx="35719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редставьте себе: чтобы ослепить ядовитую змею, достаточно показать ей ярко-зеленый камень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м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0" descr=""/>
          <p:cNvPicPr/>
          <p:nvPr/>
        </p:nvPicPr>
        <p:blipFill>
          <a:blip r:embed="rId2"/>
          <a:srcRect l="0" t="0" r="0" b="-29"/>
          <a:stretch/>
        </p:blipFill>
        <p:spPr>
          <a:xfrm>
            <a:off x="2143080" y="37148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143680" y="371484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чтобы избавиться от дурных снов, надо носить на пальце кольцо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аш конь станет выносливым и послушным, если в его уздечку вплести синий камешек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203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14400" y="-244440"/>
            <a:ext cx="9144000" cy="712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1692360" y="189000"/>
            <a:ext cx="7200720" cy="60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8:34:53Z</dcterms:created>
  <dc:creator>"Храмцова Елена" &lt;khramtzova.alena@mail.ru&gt;</dc:creator>
  <dc:description/>
  <dc:language>en-US</dc:language>
  <cp:lastModifiedBy>1</cp:lastModifiedBy>
  <dcterms:modified xsi:type="dcterms:W3CDTF">2017-05-31T08:31:58Z</dcterms:modified>
  <cp:revision>94</cp:revision>
  <dc:subject/>
  <dc:title>КРИСТАЛЛЫ</dc:title>
</cp:coreProperties>
</file>